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667-ADF5-4822-8AD3-F3021E4B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912-4393-4F2A-BFDD-63A9072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C5A-A21F-44FF-8E22-8DEE0B88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D3B-EB71-4F51-BB22-5C0491F0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CA1-FD77-4227-935C-9B582BFF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4E1-D604-4FA3-AF7D-28E42BE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D57-0241-4AC9-AB77-8512060D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8EB-8378-4A31-9CD8-AC37E50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8EB-5AA3-48D5-A5BD-8B9AA5F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E78-3716-40C3-9254-23F4586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828-D192-42E1-9FFB-4A66C07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2EE-8B53-4D5A-A169-A2F0BF3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C9F-821B-4DCE-95EC-AA3CA65A1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4472c4"/>
                </a:solidFill>
                <a:latin typeface="Calibri"/>
              </a:rPr>
              <a:t>POSTOPEK ZA IMENOVANJE ORGANA UPRAVLJANJA IN ORGANA ZA POTRJEVANJ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IPRAVA PODLAG ZA OPIS SISTEM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33680" y="178128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rememba nacionalne Ured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rememba navodil organa upravl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sistema izvajanja vključno z navodili z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vajanje finančnih instrument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vajanje celostnih teritorialnih nalož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sporazumov o načinu izvajanja nalog med organom upravljanja in posrednišk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priročnikov organa upravljanja in posredniških organov za izvajanje evropske kohezijske politike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OPIS SISTEMA UPRAVLJANJA IN NADZOR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74920" y="16765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opolnitve opisov sistema s strani posredniških organ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ecifikacije informacijskega sistema ISARR2 (akcijski načrt za vzpostavitev novega informacijskega sistema 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ba preverjanj izpolnjevanja pogojev za posredniške org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itev kontrolnih listov skladnosti opisov sistema z zahtevami evropske in nacionalne zakono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sredovanje na revizijski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6-05-18T08:18:04Z</dcterms:modified>
  <cp:revision>11</cp:revision>
  <dc:subject/>
  <dc:title>POSTOPEK IMENOVANJA</dc:title>
</cp:coreProperties>
</file>